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52DD-7566-4731-9682-0EB114CCEB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D997-6CBF-413A-8F21-68326BF0ED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8C05-5FC0-444B-B76C-729D5EB7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BFFC-6530-449A-A516-F5C7DB12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8563-8EFC-4D18-9ECB-FA8CD81D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02D-4DB9-4CD3-A761-7777D1D9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9B38-52BE-4862-9407-C5799277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CF3C-34BA-461A-8082-7652412F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A01D-DE33-41F4-8FB7-5FD8DB00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6C2F-F0A0-49ED-AC56-7F7B4157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F7BD-212F-411C-9CFD-C716111A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D901-B727-4840-8603-545D9898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E573-6979-45DB-952F-7FD687FA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53C9-3381-4C4D-814C-047D5ECB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E965-AA26-4D7F-813B-93EAD78B20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214200" y="1714680"/>
            <a:ext cx="7572600" cy="47574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9200000"/>
          </a:gradFill>
          <a:ln w="155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13880" y="285840"/>
            <a:ext cx="8215560" cy="5572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19200000"/>
          </a:gradFill>
          <a:ln w="244440">
            <a:solidFill>
              <a:srgbClr val="ffff00"/>
            </a:solidFill>
            <a:beve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alibri"/>
              </a:rPr>
              <a:t>Плоские кривые – изящные прохождения человеческого разум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: Торопова  Е.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42920" y="214200"/>
            <a:ext cx="8858160" cy="6429600"/>
          </a:xfrm>
          <a:prstGeom prst="rect">
            <a:avLst/>
          </a:prstGeom>
          <a:gradFill rotWithShape="0">
            <a:gsLst>
              <a:gs pos="0">
                <a:srgbClr val="604a7b"/>
              </a:gs>
              <a:gs pos="100000">
                <a:srgbClr val="e1e8f5"/>
              </a:gs>
            </a:gsLst>
            <a:lin ang="0"/>
          </a:gradFill>
          <a:ln w="14940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Calibri"/>
              </a:rPr>
              <a:t>Литература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baseline="-25000">
                <a:solidFill>
                  <a:srgbClr val="000000"/>
                </a:solidFill>
                <a:latin typeface="Calibri"/>
              </a:rPr>
              <a:t>Бородуля И.Т. 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Calibri"/>
              </a:rPr>
              <a:t>Тригонометрические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Calibri"/>
              </a:rPr>
              <a:t>уравнения и неравенства: Кн. для учителя.— М.: Просвещение, 1989.— 239 с: ил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baseline="-25000">
                <a:solidFill>
                  <a:srgbClr val="000000"/>
                </a:solidFill>
                <a:latin typeface="Calibri"/>
              </a:rPr>
              <a:t>И. М. Гельфанд, С.М.Львовский, А. Л. Тоом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Calibri"/>
              </a:rPr>
              <a:t>. Тригонометрия. М.: МЦНМО, 2003. — 200 с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gradFill rotWithShape="0">
            <a:gsLst>
              <a:gs pos="0">
                <a:srgbClr val="604a7b"/>
              </a:gs>
              <a:gs pos="100000">
                <a:srgbClr val="e1e8f5"/>
              </a:gs>
            </a:gsLst>
            <a:lin ang="19200000"/>
          </a:gradFill>
          <a:ln w="14940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нная программа предназначена для повышения эффективности подготовки учащихся 11-х классов к итоговой аттестации по алгебре и началам анализа за курс полной средней школы и предусматривает их подготовку к дальнейшему математическому образованию, так как анализ сдачи единого государственного экзамена показал, что ученики допускают много ошибок при выполнении заданий именно этого раздела или вообще не берутся за такие зад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т недостаток в получении тригонометрических знаний помогает устранять данный кур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дел “Тригонометрия” школьного курса математики наиболее сложный для учащихся. Одной из причин этого является недостаточное количество программных часов, отводимое на изучение этого раздела, а так же поверхностное изложение некоторых важных вопросов, связанных с решением тригонометрических уравнений, отбором и исследованием корней, решением тригонометрических неравен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2920" y="285840"/>
            <a:ext cx="8858160" cy="6572160"/>
          </a:xfrm>
          <a:prstGeom prst="rect">
            <a:avLst/>
          </a:prstGeom>
          <a:gradFill rotWithShape="0">
            <a:gsLst>
              <a:gs pos="0">
                <a:srgbClr val="604a7b"/>
              </a:gs>
              <a:gs pos="100000">
                <a:srgbClr val="96ab94"/>
              </a:gs>
            </a:gsLst>
            <a:lin ang="19200000"/>
          </a:gradFill>
          <a:ln w="14940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642960" y="571680"/>
            <a:ext cx="8001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Целью курса явля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екция базовых математических знаний, систематизация, расширение и углубление знаний в вопросах исследования тригонометрических функций с помощью их графиков, решения уравнений и неравен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познавательных интересов и творческих способностей учащихся, психических способностей ребенка, обеспечивающих его адаптацию в дальнейшей жизни, научить школьников учиться посредствам личностно-ориентированного подх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ие творческой личности, умеющей самореализовываться и интегрироваться в системе мировой математической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2920" y="285840"/>
            <a:ext cx="8858160" cy="6572160"/>
          </a:xfrm>
          <a:prstGeom prst="rect">
            <a:avLst/>
          </a:prstGeom>
          <a:gradFill rotWithShape="0">
            <a:gsLst>
              <a:gs pos="0">
                <a:srgbClr val="604a7b"/>
              </a:gs>
              <a:gs pos="100000">
                <a:srgbClr val="96ab94"/>
              </a:gs>
            </a:gsLst>
            <a:lin ang="19200000"/>
          </a:gradFill>
          <a:ln w="14940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дачи курс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центировать внимание учащихся на единых требованиях к правилам оформления различных видов заданий, включаемых в итоговую аттестацию за курс полной общеобразовательной средней школ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ширить математические представления учащихся по определённым темам раздела “Тригонометрия”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рмировать навыки применения свойств тригонометрических функций и соотношение между тригонометрическими функциями при преобразовании тригонометрических выражений, при решении тригонометрических уравнений и неравенств, при решении нестандартных задач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вивать способности учащихся к математической деятельност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особствовать совершенствованию и развитию важнейших математических знаний и умений, предусмотренных программ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42920" y="285840"/>
            <a:ext cx="8858160" cy="6572160"/>
          </a:xfrm>
          <a:prstGeom prst="rect">
            <a:avLst/>
          </a:prstGeom>
          <a:gradFill rotWithShape="0">
            <a:gsLst>
              <a:gs pos="0">
                <a:srgbClr val="604a7b"/>
              </a:gs>
              <a:gs pos="100000">
                <a:srgbClr val="96ab94"/>
              </a:gs>
            </a:gsLst>
            <a:lin ang="19200000"/>
          </a:gradFill>
          <a:ln w="14940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500040" y="642960"/>
            <a:ext cx="7786800" cy="10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Тригонометрический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сновополагающий вопрос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Arial"/>
              </a:rPr>
              <a:t>Как объять необъятн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мет: Алгебра и начала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ласс 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9200000"/>
          </a:gradFill>
          <a:ln w="14940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009900"/>
                </a:solidFill>
                <a:latin typeface="Calibri"/>
              </a:rPr>
              <a:t>Проблемные вопросы учебной темы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Каковы основные сложности при решении тригонометрических задач 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Как правильно строить графики тригонометрических и обратных функций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Как сделать изучение тригонометрических функций интересны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2928960" y="642960"/>
            <a:ext cx="242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42920" y="142920"/>
            <a:ext cx="8858160" cy="65008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9200000"/>
          </a:gradFill>
          <a:ln w="14940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ff3399"/>
                </a:solidFill>
                <a:latin typeface="Calibri"/>
              </a:rPr>
              <a:t>Учебные вопро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Что вы знаете об истории возникновения тригонометрических поняти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ак тригонометрия превратилась в самостоятельную науку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еречислите основные теоретические аспекты тем "Тригонометрии" и "Тригонометрические функции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акие типы практических задач можно решать с помощью перечисленных поняти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ак с помощью тригонометрии можно найти значение угла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Что вы знаете об использовании тригонометрии в других науках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gradFill rotWithShape="0">
            <a:gsLst>
              <a:gs pos="0">
                <a:srgbClr val="604a7b"/>
              </a:gs>
              <a:gs pos="100000">
                <a:srgbClr val="96ab94"/>
              </a:gs>
            </a:gsLst>
            <a:lin ang="19200000"/>
          </a:gradFill>
          <a:ln w="14940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осле завершения проекта учащиеся смогут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ать задачи, используя тригонометрический кру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меть рисовать графики тригонометрических функ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ходить углы в треугольни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ать геометрические задачи, с помощью тригонометрических функ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нять тригонометрические функции в других област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оить графики обратных тригонометрических функ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ходить производные тригонометрических функци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Содержимое 2"/>
          <p:cNvSpPr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gradFill rotWithShape="0">
            <a:gsLst>
              <a:gs pos="0">
                <a:srgbClr val="604a7b"/>
              </a:gs>
              <a:gs pos="100000">
                <a:srgbClr val="96ab94"/>
              </a:gs>
            </a:gsLst>
            <a:lin ang="19200000"/>
          </a:gradFill>
          <a:ln w="149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285840" y="285840"/>
            <a:ext cx="8572320" cy="11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чебно-тематический план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одготовительный эта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новка задачи,  выдвижение первоначальных гипотез,     формирование тем исслед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по группам, составление плана индивидуальны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ение источников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Ход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ение и помощи при выполнении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ция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а предварительных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Заключительный 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щита 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ение выполненны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анализ участников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1:31:46Z</dcterms:created>
  <dc:creator>Rem</dc:creator>
  <dc:description/>
  <dc:language>en-US</dc:language>
  <cp:lastModifiedBy>илья</cp:lastModifiedBy>
  <dcterms:modified xsi:type="dcterms:W3CDTF">2010-05-30T13:53:52Z</dcterms:modified>
  <cp:revision>121</cp:revision>
  <dc:subject/>
  <dc:title>metodu1</dc:title>
</cp:coreProperties>
</file>